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324-F89A-408F-9BC1-9333A0E5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0A4-65AD-41C9-9C5B-50DD4AE5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04F9A-CF48-4FBB-9691-172C19D3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39E93-4D60-4720-8E53-27E98B60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A039B-18F7-4BB0-9D32-33384E6C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37BC1-C0F6-4739-BE04-AF4B117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88787-6EDA-44A2-8F61-FB4F4316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3254D-9566-4046-A583-E904EFE2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EFD25-284B-4496-8693-2DA29715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87219-9BED-4EF0-9720-8DF41414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A1FE9-834C-4DDC-A4E4-B21767A9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5E863-C6D4-4A48-A4E6-43690935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116-5E20-426D-BBD5-1E53C6C9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B33E8-C8DA-4310-8993-F2BA7D69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41D21-5578-4C8A-A698-17FB6A4B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1A5A0-740D-4D04-ABB2-FA70EFC6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19A16-5511-43B2-A542-09B7818B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74660-7F63-4BB6-B0A4-7472E206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062C9-B3BD-4DC4-B138-4569E3C6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394FE-0927-4FAC-A710-37C15C27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23FF4-4AB5-4F50-B365-C208E451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8184A-BC89-43A3-B1A8-8BA6DA36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94141-00FD-434E-9D77-13D5FEA7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610-8D42-49F8-A68E-CE8FACB8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FE68F-7D1C-4D05-B6AA-4C78D0A5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19D46-5293-499C-8DB2-BFAF630A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A3470-6CE1-4284-88BE-D8335B76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0A606-C4AE-438D-9869-40D91966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61747-C713-442B-9006-69AC4BA7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7E85E-75E9-4041-B33F-9CB4E27A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DD577-B426-4538-B459-2903F378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03489-5B0C-434F-ACF9-7B2DD5EB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18DC5-094F-46CA-8E6C-19483ACF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305CA-2565-4D97-A0A0-CC96305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D787-D4EF-4D97-BDC9-3F44DBE0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E641A-3BF5-487C-B53C-43A6A087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99541-887D-4C48-B4B1-60E3E303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D4EBD-2423-4EFF-AEB7-62ACCB41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523C7-025E-441F-B810-E1E036A4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CB8FF-D15F-49F7-A003-2D4DA40C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7E505-4DC2-440E-89C4-ED414172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1EA17-81F5-4614-8C75-919315A4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D6A16-1D13-4E04-BA1B-0BD85427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68F32-E109-457F-BB2C-41ADFB76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57FDA-EF89-4C7C-A85D-D8DDCF16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AC4A-3328-488A-9ED8-6EE8F966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D692B-9FA5-4864-9A52-6335A76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BC82C-5BB9-4672-A5B8-D95E91E9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FB874-FBBE-49EC-820E-BBB5D173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E788B-F44C-48A1-9715-523C7DDA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8898F-AB54-478D-803E-24DC7454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09D9D-51D9-4991-960A-F9B39B94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45EC0-AEC1-45D5-8746-D9B4D314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DFDD0-63DD-4735-A2A3-53E79A68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B7E8B-3F16-4ACE-BF89-B5D8EDE2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7E4EC-E575-44C4-BB13-432690A7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1691-7260-4255-8E9E-0BEBCFAE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A14D1-2E9C-4EF1-A029-D04E4A34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00CF2-F5A8-4EF6-BEFA-891AAF2F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28D1E-F7D7-4D13-8CF8-2B479DCE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8B193-4A8C-406A-B10E-A8DF4117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03C15-1B23-419A-B99E-0E05D729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CA6CA-A67D-4444-B17B-232A430C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36982-AF28-4B71-9681-8A2E8980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2478C-ADA3-4CA3-B097-375A2A47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5C9AD-A835-4E87-981C-C2DDC1A5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B4A6A-B063-44F5-A737-E1308A72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B7BD-5C14-4B28-99FF-72711725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C2CC6-57F7-41E0-A6DE-D347E10F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5538C-D49C-49E9-85DF-EE1C93C2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CFB28A-F631-4B2A-AC07-BEF98631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6A93C-080A-483E-994B-E6F91FC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9E072-9014-45D5-B4EF-3D4B5B9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92F6A-5955-4379-8AE1-FE56AAD3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78417-5E6E-45F1-8681-A47CDAF3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3E1A9-174C-4A2D-A6CC-A6068006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5F549C-6A24-4C2C-B62B-825C623D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6353B-F959-4ED9-9DCF-3A3804E9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5C43-5C41-40E4-9F9C-DEE09396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E1661-4D5C-46F9-8FE9-EDB27124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0D2DB-C96B-418D-B9E1-EC482CFE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E72A6-F98E-40BF-9B2B-4DF08AFE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4E280-A16D-4EFA-BEAD-7CFE7F65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460BF-9845-43C2-8031-4EF8B72F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9CD84-AD86-49A8-8697-D484A96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E1F373-C2B5-4534-BA47-F437E604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89B8A-8F5D-4ACE-BA91-765B40A9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188C1-5ABC-4887-B97B-FE9CF5B4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99959-CA85-4491-88A0-2EAB124D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680F-1212-4EBE-83F4-7D2BC318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829CD-2983-47CA-9EA8-15B9F279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A5DA8-6582-4972-AA3F-830B00FA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53EBF-4BF7-4748-A3D0-85C1D19F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0392F-8D1E-41F9-8E44-975E09C1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C31BDC-73AE-41FD-9F57-38808F9F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99DFF9-EE1F-43BD-B696-7344EF40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1286F-1591-46B8-A0C8-184899BB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5818F-75E3-4EF7-8382-9E6CA2B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ECE6DB-0452-4EB0-B0D7-87183B1D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F7A40-CC11-455C-95E6-43418B66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AFE5-1FB3-4167-9D7E-F8E5524A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48392-C5D0-4863-BE2E-CAAC299E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894C2-FF62-468E-9F1F-4FECEF82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A41491-ADAB-4C5B-9E2D-C9321248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E73D85-1490-4669-9037-19973CFE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0AE5A-1BE9-4738-B59F-E8654345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3E1241-7ADC-47A4-BA1C-5C88E1F6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B85B5-9DA1-42CE-84FB-0056655A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95DD2-B87C-4F88-92EE-01DDB593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1E917-E9E3-4F4F-87E0-6CA889BB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8C4A6A-B840-4C0C-8A22-65667660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AEF-D932-4D59-9AB2-545F2D33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6CA7-9ACE-4897-893E-EFE9B2EA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B4F16-7E16-4D87-85BF-F5A0FCFC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C2529-6691-4D88-AFFC-027027B1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C0B7A4-A074-49D2-8B88-BE872670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3DA53D-776F-4DCF-A73E-DE08F1FB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8C2E3-2A64-4357-A3A7-180E49B5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4DD8A9-AFE7-428D-8A79-797B2F7B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122DC-50A4-4B19-93D5-8EC3B944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5B6B2-2CED-4BE9-86F9-034706CE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CB7804-4F72-489E-99D0-CB1D9D8C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ED7F6-80C2-47B3-997F-E51F7356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8199-E11F-4019-AE0C-D44AE66B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1B590-330E-420F-AA8F-E635C328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9FC6B-6600-401A-BCD7-F3C0D271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DD640-7213-4CD5-9397-66D048D7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B81DC1-B963-4C2E-9ED5-D5D455EC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33D076-E6BE-4998-B4BF-CDC584EB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49D0F4-92F2-48FA-A030-F64793E8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89D11A-7BEA-4B60-8232-C041FE36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81A5ED-E493-4396-B9EB-E1BF09DD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BAB544-87C8-4B8C-861B-D0B2E493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191C4-FD2D-4D73-A100-3506A96C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522B-7F05-4021-AE4C-39C5B51C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EA0B7-D7D3-49F3-8D48-F217BEC3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BF12FC-B72C-4633-ACE2-A6E5781D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C16B2E-373C-477B-8403-1DF8F97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76426A-43A9-4AE9-AA06-722A755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BE53D1-D556-4B82-98A8-3E26448C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5AC083-03E8-425C-9AF3-9168E582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7FA77C-C6DC-45CC-B88E-D2E93ED8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BCF9A-CA21-4B3C-AE61-424558F7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AE8307-D53A-40EA-BBDA-2BC89141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2C4615-BD97-46BB-9A4D-FB1F59F0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5D21-EA8A-424E-90E4-17158CC5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39041-57E4-46E5-8DE3-FAD3535E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C5C1AF-7C38-4ECD-AC4C-BA2B1E9F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DF1ECE-CB0C-4F0E-8CB6-E117E293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FC005-4621-4249-8ADB-7013E45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7EFE7-3592-47CD-8FB6-295627BF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D7C4B2-3361-4E90-BFC8-960C8659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6377B-3EF4-4D7F-B810-22F98DB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2AA9EC-5723-4421-936D-50C27409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B7E31-8E16-4DE6-8CF9-FB0935FC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0D57DE-192D-4BDE-AD55-6E235A45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6DF1-B39A-421A-BC86-D38DDDA8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9783E6-CF04-4847-9483-4568DCBB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782E5-9A35-4094-A1D5-257ECB02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1E561E-FDAE-474A-A01E-F6DDEB7A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8F55C4-2BF2-40CD-9DC7-1A75E8AF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217144-1627-4D1C-A2D0-E44A6B96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F9D36-06C3-4AA2-8F85-171939D4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8CAA1D-8CA8-4E95-83DE-D1F0A8A8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623595-432A-4990-B85A-4B594270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35439-0E37-47E1-A85D-CFACEA83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D834D-68DE-40C5-A739-F48D7F3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82C15-A49C-49C9-986A-C305BB16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6AF78-18F1-427E-80F0-78DA1750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E14FA9-86DF-4412-97C4-3B936793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77A57F-BFF7-45BD-BA19-D28B3E2C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C377F5-E99F-4643-A684-26A2B91B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392F7B-60B0-4798-ACDC-DD383C53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DC86BC-6E6F-4C5B-B0B3-F8FA679F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4731A2-519E-4F43-BB73-8BD374DA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790B95-0F88-4E30-948F-3383F600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3151D9-528A-496D-9814-EC2F112F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8906E2-D95A-43AF-A292-6C920B15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108B-76F9-4B2F-9855-8588E4D1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85CE71-7273-4EC4-AE5A-D234EE96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1F74FC-18FE-4504-B880-4FD044DF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0B6952-2779-4A4A-BEE0-9BB00324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AD9221-6C33-4314-8676-8C83E0F0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460354-9DE0-42E0-B650-D2F185FF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AAF20E-F69B-410C-90A2-433DA1AC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D50E8F-FE64-4567-9DBC-4B4A33D8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EBAA95-C2B4-4543-82D2-8BCCF011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F39C74-D834-45BB-B3CB-9612E158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5CA14A-DA15-464D-9A74-820F5AFD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AB91A-60D0-4BB5-A2A7-4AEE7A0A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D3948B-7299-4083-A93D-5CA7D588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659C55-2ECE-497D-A797-B3929930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6AC867-7C8B-44A2-A42D-AA3FB05A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F2262B-F074-40CB-83FD-1192E792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E82FDF-3E89-4568-9D40-2B07D42B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3C945C-160B-4FC8-924C-A1BB0312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230548-0077-45A8-B875-743752D8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1B3F4-D723-4851-A50B-D32867A9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DCC2-5A6E-44F5-9AD8-092C1F7E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BAF-3173-4EB6-9B24-50686E40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A140-C235-4783-9FA5-F481037C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F72BD-49DC-437B-B292-9AD7BBE7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1E4FB-7C54-40AD-AD0F-57E481F8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8019-9F98-40C8-986E-A89442BD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A7E1-BD64-4033-8740-311249AD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13AC7-E96B-4C80-96F7-B70F5397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2351-A5B8-4AF7-9754-22B166EF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98FE-74D3-41E6-8341-6BD07913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89E3-A185-41F6-8786-114424E0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3BEF-F419-44E3-A2C2-AC6F04D1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5A1-6C9B-4AB7-B4AD-F0608795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F7CF-1289-4BD3-ADA0-9EF50ECC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945F-97F0-45EC-BF50-FDE97E46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1EB22-789B-474E-974A-31EF67BE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83D2C-2899-4246-A7DC-0200C857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94372-DB5A-4DF5-8CCA-1FC201B1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9DEE-D0FA-46A4-82FC-19BE49DE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3F869-CE16-4936-8F5E-E0B5E79B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B034-EF7A-43E8-A216-F7082C40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57D7D-AE77-41E4-BCD9-D276547B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72F5-8D57-4CE6-862E-72FD2087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3C4-CF8E-48B7-8F5E-066D3E49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9E681-F97D-4CA5-B877-6FBE88AD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C4DA9-0C38-45B2-A058-97B76039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D763A-7C25-444B-BF44-8C894724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E944E-C63D-4409-91CA-F3B0518F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2787-C2A4-42D7-9F99-1D08EE3D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5F485-FC0D-4907-B84C-7F4EC23E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F8C7D-DF00-450F-B40C-A733154C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802C5-C9E8-4039-A416-6A87349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51843-45E7-47B2-860F-49E6AAB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C323B-1693-4A33-BF96-7CD89A45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265-7E4A-4E5C-82F9-F6D56F55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CE181-AAFA-443C-8BCC-38493041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80D21-B540-4063-903E-34A55137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7F1AE-2944-45C9-8F6E-E4997312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9ADBF-82E0-4211-8D9E-9B96AFBF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65069-4C8D-4A0E-90CF-336FBD63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FB379-9B95-4CCF-A9CD-8D987B66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09FA4-08D1-49B7-91A7-58C5113B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A79E0-B207-49DC-BC7C-CF15EFCF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8BC9A-9B46-47F9-98E2-FF6BD39C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DD804-780A-4D2B-8A6F-2A8AF5C0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D68-0F84-4F26-96F0-F64B1242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63A1A-C1AC-43C1-9ED2-1D9FDCD0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E98A1-A5DE-43F6-A1C5-28B5726A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BCC90-9D64-46EA-A655-981EEE4D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4FDC8-880A-4A80-9469-FA5FF3AD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1F863-BEA5-4FAA-AFEB-19E0EFA2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792A3-06CD-4DEE-9DED-B3770EC9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EF18C-B73B-474F-B0A6-A204661F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27C2D-3958-43AD-856F-CA873FF9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1C6DC-2A32-4743-9587-1EF59DB6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62BD1-7FEE-4AA9-BF89-02582E33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8BF-2F47-4FF8-A3A5-1F652443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9C3E0-7375-476D-9CF1-72D40386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4C41E-8DE9-4B53-A95B-14112DE0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31E88-34A7-4D23-BC33-7A9E11C5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331EE-1FC2-44A6-B0AE-57429E93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D2466-01CB-415E-8915-C3418E15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B86EE-0E5E-416E-922A-175E4F00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637A1-3747-4510-9B23-4B5DEC20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2F534-67CA-4B22-85F6-28B38C59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1BFAE-9538-40A6-80B9-7D568473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C8705-339E-4317-A0C0-5330B623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74F-3200-48C5-BA52-EF931056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A263D-1F96-4389-814D-A63AB685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D17B3-797D-4EDF-A57F-8AB1BACE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5EA9B-D107-49EF-91AA-BFC38335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9CA9E-0556-4F40-B420-38619177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D4B26-26BC-4172-BBDE-BB33BF4E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CDD37-73FA-4FA3-9A1F-91407C1B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520F-1A9D-4716-96A3-2BE728D5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ACADC-21B2-4940-8CCB-BF9401B2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D1A23-C765-43BC-A323-7A73F311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C61A9-AE89-46C5-8E9D-7A97CB29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20F7-0499-4076-A14C-525B63C888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6CA1-90C1-4235-BE13-4EB702228C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E550-C01A-43A6-8EE2-AD4B26D398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C23B-8BFA-4F4F-8276-B5537539BA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649E-121D-403B-89B4-6E8A60BACA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2580-5D43-425C-A6AC-39242ED08A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93F1-893C-4B70-8DBE-24D0D4455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D72F-00F2-435C-B287-FCB4E4C333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7417-8467-478B-AA6D-CD6A397AD2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EEC6-0D31-44A7-A8F4-FACDC6E504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A231-DDAA-4DC1-8AC1-C6D2D5B74E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790F-15D5-4EE9-8093-26199064F7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96F2-DD21-43A9-87A3-E73E3A6AA0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8393-42D9-4D42-82D1-397D7B2B82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4C76-C2A4-498A-9C65-7CED6C1E76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AF28-556F-4C79-887B-7A0742D50C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E43B-AD76-407D-8D6A-BEB79E5D96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0662-F7DF-4254-A236-3D6BECB177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61C8-4025-4BA2-BA77-237E69B3A0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0A3E-5DB1-4899-BD1A-A65144C3D4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A582-D403-4428-B40A-452C805B92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BEFB-A2BD-4BE4-AEA5-942CEE02F6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C8E9-FCB8-4815-8D41-2B1A3E0AF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8983-7FD8-4927-A595-41FB3C10E2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0B34-5C2B-4FCB-B108-F6D9C62015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677F-3550-42CC-9153-2246028BE9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FEC8-B1D5-4EDB-9772-0C5491F2B8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4DF2-53DD-4859-ADAE-17D1019704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DCF7-4D72-421A-98CD-A3DFEFEB2B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B3BB-F911-4967-BF95-E901273664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9041-CF1B-47F3-946E-73641D2494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ACC3-9E6B-4431-B66C-8EF6C06F01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8395-FAD4-43D3-BE6F-D2CDB29CC9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322A-5345-4187-A691-F6234F8C34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5B1C-D87C-40FC-ADB5-9ACAEB279E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6E42-5B52-4C5E-98D3-BA3044C6E2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FD80-365A-4716-8F03-CCA0AE633A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BCF3-41D9-4EFD-ACDF-57E95F40F6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4037-C33B-4C6F-A189-6EED9795AC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45E0-3948-4740-A33F-A8E9BE3DA9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D571-922F-47A5-9684-12907C53D1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FEE6-83EA-4B3F-BC13-F6728C2405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46160" y="3013200"/>
            <a:ext cx="88516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47520" y="1290600"/>
            <a:ext cx="9048960" cy="198900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2" descr=""/>
          <p:cNvPicPr/>
          <p:nvPr/>
        </p:nvPicPr>
        <p:blipFill>
          <a:blip r:embed="rId2"/>
          <a:stretch/>
        </p:blipFill>
        <p:spPr>
          <a:xfrm>
            <a:off x="1108080" y="3803760"/>
            <a:ext cx="7067520" cy="22669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3132000" y="229068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5651640" y="184464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5796000" y="2349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8229600" y="1773360"/>
            <a:ext cx="66348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8537400" y="2392200"/>
            <a:ext cx="470160" cy="4478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9"/>
          <a:stretch/>
        </p:blipFill>
        <p:spPr>
          <a:xfrm>
            <a:off x="3203640" y="436572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0"/>
          <a:stretch/>
        </p:blipFill>
        <p:spPr>
          <a:xfrm>
            <a:off x="3132000" y="50133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1"/>
          <a:stretch/>
        </p:blipFill>
        <p:spPr>
          <a:xfrm>
            <a:off x="6443640" y="43797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12"/>
          <a:stretch/>
        </p:blipFill>
        <p:spPr>
          <a:xfrm>
            <a:off x="6488280" y="5070600"/>
            <a:ext cx="86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457200" y="419040"/>
            <a:ext cx="8229600" cy="63532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258920" y="2103480"/>
            <a:ext cx="25210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332000" y="2781360"/>
            <a:ext cx="25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146560" y="210168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219640" y="277956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969840" y="492588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1042920" y="560376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1116000" y="630864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5234040" y="492588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5307120" y="5603760"/>
            <a:ext cx="331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185760" y="1204920"/>
            <a:ext cx="8772480" cy="44481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1908000" y="4290840"/>
            <a:ext cx="28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2916360" y="5013360"/>
            <a:ext cx="33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571680" y="2019240"/>
            <a:ext cx="8001000" cy="28195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403280" y="350028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558000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2700360" y="4221000"/>
            <a:ext cx="324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19240" y="895320"/>
            <a:ext cx="8705520" cy="5067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826920" y="2521080"/>
            <a:ext cx="53294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532944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532944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971640" y="4653000"/>
            <a:ext cx="53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684360" y="5359320"/>
            <a:ext cx="53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475164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475164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00000" y="3789360"/>
            <a:ext cx="475164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971640" y="4365720"/>
            <a:ext cx="47512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755640" y="4998960"/>
            <a:ext cx="475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76040" y="852480"/>
            <a:ext cx="8791920" cy="5153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900000" y="296712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971640" y="422100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971640" y="479736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755640" y="5445000"/>
            <a:ext cx="496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907920" y="74520"/>
            <a:ext cx="7583760" cy="6708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547640" y="3875040"/>
            <a:ext cx="669636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66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1476360" y="5084640"/>
            <a:ext cx="669600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1476360" y="5589720"/>
            <a:ext cx="66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1519200" y="6222960"/>
            <a:ext cx="669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162000" y="1628640"/>
            <a:ext cx="8820000" cy="3600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284328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3995640" y="3789360"/>
            <a:ext cx="11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5:3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